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jpeg" ContentType="image/jpe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66B6-4CE3-4524-9D34-866E98A9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91E4-D81D-4630-B06D-FBDCFBEB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7878-3D98-4830-8AB1-3B600F42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3B0F-4974-473D-A586-DB96628C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BB7A-8962-46B1-B8F7-911727C1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BBAF-5314-42F3-8618-60C95522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AFE6-A69F-465C-A8A6-823AA6D7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E494-E14B-4128-A86A-3A2FFE19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4FCE-F50C-4241-83B0-B4874CB3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2B3C-ABF2-4708-8187-B1772865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0F8F-5CE2-4C2A-98FF-7501DE36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A442-0561-4885-8CD9-95D257D4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BF2B-CC5F-4854-88EC-082D3B853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e llamo _________ Clase 6 NH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a fecha es el 14 de octubre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Propósito # 11:</a:t>
            </a: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es un hiato y un tripton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ponde en una oración comple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es un dipton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asar la Tarea #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 Hi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El </a:t>
            </a:r>
            <a:r>
              <a:rPr b="0" lang="es-ES_tradnl" sz="3200" spc="-1" strike="noStrike" u="sng">
                <a:solidFill>
                  <a:srgbClr val="333399"/>
                </a:solidFill>
                <a:uFillTx/>
                <a:latin typeface="Arial"/>
              </a:rPr>
              <a:t>hiato</a:t>
            </a: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 es cuando dos vocales son SEPARADAS por una 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í</a:t>
            </a: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lab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An </a:t>
            </a: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hiato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 is when two vowels are SEPERATED by a syllabl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u  s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e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o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e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o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  d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e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ta  r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a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r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e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puer  to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Cuando una vocal débil (u,i) lleva acento escrito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ú,í) se separa de la vocal fuerte para formar otra sila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When a weak vowel [u,i] has a written accent 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ú,í] they are separated from the strong vowel to form another syllable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  r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í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Co  m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í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a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ú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a  c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í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a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o  li  c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í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Po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2514600"/>
            <a:ext cx="41148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y una vocal déb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ptongo puedo for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me pones el acen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 voy a sepa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2514600"/>
            <a:ext cx="4724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am a weak vowe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phthong I can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f you give me an ac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ll then I’ll be g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vide las siguientes palabras en silabas. Pronuncia cada palabra en voz al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5. libre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feterí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6. vací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naderí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7. leche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rú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752840" cy="1173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908440" y="4191120"/>
            <a:ext cx="977760" cy="1460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286000" y="5715000"/>
            <a:ext cx="1984320" cy="895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7086600" y="3200400"/>
            <a:ext cx="1523880" cy="101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7010280" y="4724280"/>
            <a:ext cx="1946520" cy="1333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6705720" y="1854360"/>
            <a:ext cx="160020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 Tripto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El </a:t>
            </a:r>
            <a:r>
              <a:rPr b="0" lang="es-ES_tradnl" sz="3200" spc="-1" strike="noStrike" u="sng">
                <a:solidFill>
                  <a:srgbClr val="333399"/>
                </a:solidFill>
                <a:uFillTx/>
                <a:latin typeface="Arial"/>
              </a:rPr>
              <a:t>triptongo</a:t>
            </a: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 es cuando tres vocales están JUNTAS en una 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í</a:t>
            </a: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lab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An </a:t>
            </a: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triphthong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 is when three vowels are TOGETHER in a syllable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uey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Pa  ra  g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uay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vide las siguientes palabras en silabas. Subraya el 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diptong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encierra el </a:t>
            </a: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triptong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y cuadra el 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hiat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iet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b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gu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rugu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129528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1295280"/>
            <a:ext cx="1524240" cy="45720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1371600"/>
            <a:ext cx="1143000" cy="457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6:54:22Z</dcterms:created>
  <dc:creator>Helen Zumaeta</dc:creator>
  <dc:description/>
  <dc:language>en-US</dc:language>
  <cp:lastModifiedBy>Helen Zumaeta</cp:lastModifiedBy>
  <dcterms:modified xsi:type="dcterms:W3CDTF">2011-10-14T20:28:36Z</dcterms:modified>
  <cp:revision>32</cp:revision>
  <dc:subject/>
  <dc:title>Me llamo _________ Clase 6 IM La fecha es el 4 de diciembre del 2009</dc:title>
</cp:coreProperties>
</file>